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438BB-ACEF-4B7D-9DB0-07BA2966C0B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DD8F2-B484-4281-A121-70E34E6B456D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3281-741A-4AB6-B09A-4E3B35E2E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9C9D-A172-4B62-A5A1-E397129B5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AFBC-42BB-4108-B832-0EA687D62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67B9-FF4C-4ECD-9B6E-4BF0E9B7F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10832-846C-43B2-B728-27CF659FE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BE1D9-2DEA-40E2-AF8F-36D34817B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68CB6-B288-475C-B1C2-404160CBC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FF250-0510-4328-8387-D2514531D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53460-CC81-46CD-B77F-A5D5151A1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E45ED-71C2-423C-BFA8-66D6D87D2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95843-D997-4CA0-BFCE-A2F0496DB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1D57-46E6-4D0C-A5F0-B86356084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692EA-37F3-425D-B0F5-7C8385C1C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F5849-2773-4DAA-87BE-10D89DFBF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3DF2B-4833-401F-95AB-D14944493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7588F-8A54-4062-8201-BB0D0DC14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05C1C-F3A0-4D8B-94DC-595DD223F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F4A5-2DE5-4049-B4F4-BA18BD866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C936-5579-44A2-B9C6-525C698AE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0D1B-DD33-4BE8-9684-784E5700A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DED4-F2BE-4225-8E7A-9C96C3B07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388F-8637-4D27-89A1-CF405DFD2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8637-7DB1-4C6A-BB8C-CCB45BB07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E5EB-F451-49F1-8D38-1701824A7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2BB4F-B6E4-4E41-B4CA-17A8B870F8D3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1517F-8D5D-4615-9376-89436C1593DD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Рисунок 7" descr="3105911.jpg"/>
          <p:cNvPicPr/>
          <p:nvPr/>
        </p:nvPicPr>
        <p:blipFill>
          <a:blip r:embed="rId1"/>
          <a:stretch/>
        </p:blipFill>
        <p:spPr>
          <a:xfrm>
            <a:off x="-219240" y="-255600"/>
            <a:ext cx="9582480" cy="7369200"/>
          </a:xfrm>
          <a:prstGeom prst="rect">
            <a:avLst/>
          </a:prstGeom>
          <a:ln w="0">
            <a:noFill/>
          </a:ln>
        </p:spPr>
      </p:pic>
      <p:pic>
        <p:nvPicPr>
          <p:cNvPr id="90" name="Заголовок 1" descr=""/>
          <p:cNvPicPr/>
          <p:nvPr/>
        </p:nvPicPr>
        <p:blipFill>
          <a:blip r:embed="rId2"/>
          <a:stretch/>
        </p:blipFill>
        <p:spPr>
          <a:xfrm>
            <a:off x="274680" y="993600"/>
            <a:ext cx="8746920" cy="206712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928440" y="4714560"/>
            <a:ext cx="3986280" cy="52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аленький или большой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Подзаголовок 2"/>
          <p:cNvSpPr/>
          <p:nvPr/>
        </p:nvSpPr>
        <p:spPr>
          <a:xfrm>
            <a:off x="4857840" y="1071720"/>
            <a:ext cx="3986280" cy="5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ёмный или светлый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Подзаголовок 2"/>
          <p:cNvSpPr/>
          <p:nvPr/>
        </p:nvSpPr>
        <p:spPr>
          <a:xfrm>
            <a:off x="4214880" y="5000760"/>
            <a:ext cx="3986280" cy="5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Что в нём есть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Подзаголовок 2"/>
          <p:cNvSpPr/>
          <p:nvPr/>
        </p:nvSpPr>
        <p:spPr>
          <a:xfrm>
            <a:off x="0" y="5715000"/>
            <a:ext cx="398628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дни ли мы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Подзаголовок 2"/>
          <p:cNvSpPr/>
          <p:nvPr/>
        </p:nvSpPr>
        <p:spPr>
          <a:xfrm>
            <a:off x="285840" y="1571760"/>
            <a:ext cx="3986280" cy="5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колько звёзд на небе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500040" y="257148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Единственный целостный комплекс всего существующего (от галактик до элементарных частиц и окружающей их среды). Он Идеален, так как беспределен во времени и пространстве, всё остальное относительн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7366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457200" y="2000160"/>
            <a:ext cx="8229600" cy="43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т, не все. К примеру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в год примерно открывают 2-3 новых, ещё ни кем не видимых комет. Их может увидеть первым не только астроном профессионал в телескоп с гигантским приближением, но и астроном любитель, в не слишком дорогостоящий телескоп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2"/>
          <a:stretch/>
        </p:blipFill>
        <p:spPr>
          <a:xfrm>
            <a:off x="1571760" y="4714920"/>
            <a:ext cx="6400800" cy="18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Заголовок 1" descr=""/>
          <p:cNvPicPr/>
          <p:nvPr/>
        </p:nvPicPr>
        <p:blipFill>
          <a:blip r:embed="rId1"/>
          <a:stretch/>
        </p:blipFill>
        <p:spPr>
          <a:xfrm>
            <a:off x="420840" y="30240"/>
            <a:ext cx="8242200" cy="9698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4714560" y="856800"/>
            <a:ext cx="4071960" cy="53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14440" indent="-386280"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ксима Центавра и Альфа Центавра – находяться в 270000 раз дальше от земли, чем солнце. Лучу света от этих звёзд приходится лететь до Земли примерно – 4,5 год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3" name="Рисунок 3" descr="fodmain.jpg"/>
          <p:cNvPicPr/>
          <p:nvPr/>
        </p:nvPicPr>
        <p:blipFill>
          <a:blip r:embed="rId2"/>
          <a:stretch/>
        </p:blipFill>
        <p:spPr>
          <a:xfrm>
            <a:off x="142920" y="1285920"/>
            <a:ext cx="4833720" cy="3625920"/>
          </a:xfrm>
          <a:prstGeom prst="rect">
            <a:avLst/>
          </a:prstGeom>
          <a:ln w="0">
            <a:noFill/>
          </a:ln>
        </p:spPr>
      </p:pic>
      <p:sp>
        <p:nvSpPr>
          <p:cNvPr id="104" name="Содержимое 2"/>
          <p:cNvSpPr/>
          <p:nvPr/>
        </p:nvSpPr>
        <p:spPr>
          <a:xfrm>
            <a:off x="285840" y="4929120"/>
            <a:ext cx="407196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ксима Центавр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Заголовок 1" descr=""/>
          <p:cNvPicPr/>
          <p:nvPr/>
        </p:nvPicPr>
        <p:blipFill>
          <a:blip r:embed="rId1"/>
          <a:stretch/>
        </p:blipFill>
        <p:spPr>
          <a:xfrm>
            <a:off x="450720" y="73080"/>
            <a:ext cx="8242560" cy="621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4T17:41:59Z</dcterms:created>
  <dc:creator>Vasilek</dc:creator>
  <dc:description/>
  <dc:language>en-US</dc:language>
  <cp:lastModifiedBy>26058</cp:lastModifiedBy>
  <dcterms:modified xsi:type="dcterms:W3CDTF">2010-05-31T12:38:35Z</dcterms:modified>
  <cp:revision>26</cp:revision>
  <dc:subject/>
  <dc:title>Какой он - космос?</dc:title>
</cp:coreProperties>
</file>